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26E-35F9-42C0-BF9A-D183C6B8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046-D653-40C7-AAFD-0FB987BC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A29-746C-4336-97E7-9D54192F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E17-BFF8-43B2-A602-0190C88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0203-3E83-4D26-88E7-C2C4D5A8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496-8567-4EB6-B49D-F27588F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F2F8-40C8-42AF-9CDA-68A6154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86D4-E971-40EC-B9F5-C1EA817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FE49-06CE-4505-91C9-023E5227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AB36-5A6F-44D0-BA07-041DFFBF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81C-E616-4312-8F68-D1FB072F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1EB-77CB-4B89-93BB-8B3F1E4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504F-B653-438C-B23B-9660CCA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8019-9493-4FD8-A70B-7AF1CA8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FD3C-3B3A-40E3-BB0F-94156E87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D3E-17BB-47BC-8C95-A983168B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6C94-1E9F-4CA8-AFA4-5567DE9E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C414-70BD-4BD2-8DAD-5F27BCD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3A103-A721-4971-A7EE-BCBFDDB9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71F7-9563-40D4-96E2-407189E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561C-AAEA-4228-8044-51B7F5F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510C-9C33-40BA-9DF3-0C47ED37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102-9B84-407F-8F54-7B77CDB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16DF-4450-461A-B0E5-D2CFD64A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C5A6-0C35-4884-AF69-11875A5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0A17-910C-4DF3-B27E-4DF297C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ECCD-B147-4373-B481-76D59A9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0B18-91C9-4D30-A009-9CE0E2C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2604-23F3-48CD-8F20-10CF1BB5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9160-5604-4758-9C21-33160B20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763F-0715-4899-8675-65877710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3F02-F3DD-4A54-8EEA-5F6F6F7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0BFB-F646-4BDC-8E8F-B9B587E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15C-F62C-4506-B8CD-8F626D2B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9CA7-9DFC-4E5C-BF89-0982FFC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D4C8-2B5B-4B78-A9D4-C645BE4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4B6C-045C-4CEA-889D-B36DA82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4B82-EE03-467B-8F60-FF391DE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F94B-9982-4AC8-A7FF-434A52E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5D15-F0C1-4735-9F8C-A1868EC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8D80-EA73-4281-86EA-DA9473F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5096-4FB2-44BA-A60D-E879E1D1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70AF-0F39-4B8B-B9C4-0C11C566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BA20-52B8-45D6-97B2-51B361CC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A22-2DB1-4695-A981-F9D909C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3C25-3944-48A0-91AC-FC983CB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11DE-FEC4-4830-8048-CD5A204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9449-A105-42FF-8A55-5194C53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5A6B-A31A-4ADA-9568-39B6265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1531-6CE8-4312-9EE9-E21C04B8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7BD9F-EFE3-469C-B051-10616F2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E7B4-C364-4D82-AC96-03BF40A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E451-6227-40FF-8E63-44C7492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14A3-A1AA-4710-A58E-284C3E3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1EFB-C80E-478B-BB8E-0615122F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8AE-63E7-4D7C-820B-AC993A5C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845C-BE10-4FB4-A829-B85B61D4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D76-4D56-4888-BC10-99A240E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45F-C151-47D5-8B34-C8586C6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89B-880A-4243-BE8D-DA4B5AA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AD8-F54A-4E39-AE6A-C09B3376B19E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13F-A6D8-48EB-B0CC-79B24582A6E3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EFC-BD3F-4747-ADD3-5CB9E0CEB6CC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1B69-1A57-4538-8CF1-06364AA43CA0}" type="slidenum">
              <a:rPr b="0" lang="en-A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AC6-B0CA-4FE0-B1F0-DA4CC17E5837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7948800" cy="1884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7478640" cy="1079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95280" y="1341360"/>
            <a:ext cx="7540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How do you choose what you will teach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Textbook chap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Special ev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Student inter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Teacher inter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Understanding Backwards Design (UBD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Multi-disciplinary approach (cross KL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Could you use program as Language promotion documen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771840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6840" y="1197000"/>
            <a:ext cx="74674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re the aims of the unit of work clear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What will students be able to do in TL at end of UOW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it allow students to demonstrate progress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re the topics/themes/tasks authentic and engag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build on prior learning? Is the language learning cumulativ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differentiat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enable students to achieve succes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challenge my students? Should I raise the ba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What are the key elements of an effective Languages program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How can I enhance my current Stage 4/5 program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09:59Z</dcterms:created>
  <dc:creator>Merryl</dc:creator>
  <dc:description/>
  <dc:language>en-US</dc:language>
  <cp:lastModifiedBy>Merryl</cp:lastModifiedBy>
  <dcterms:modified xsi:type="dcterms:W3CDTF">2013-04-04T05:48:32Z</dcterms:modified>
  <cp:revision>83</cp:revision>
  <dc:subject/>
  <dc:title>Indonesian- A Priority language</dc:title>
</cp:coreProperties>
</file>